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07D-B9A7-4875-8852-193A68CC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F48-59F2-4BC7-AA75-3FFBC79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41F-9700-445E-B66B-FB1B0349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098-D1F9-4E06-9975-06A44090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79C-6A2B-41EA-A056-EEEC36E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77A-1F21-4AB4-867B-07979EEC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956-A4DF-4822-91B3-9F85DC5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558-E1F2-4900-80B6-C9004CD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CCA-25D0-4077-BC66-6865AD2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302-541B-4834-A5F0-C6B0F3D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3D3-6ABE-4083-B2D3-AD541A7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CE2-46AA-45BC-9954-E7E6803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47D-7B4E-4FF9-8DD3-DA1D10629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c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iberals, Europeans,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ose who favor extrem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aris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0-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Charles X rejected the Legislature, limited the right to vote &amp; restricted the press = angered French Radicals = they revolted &amp; wanted to set up a Republic; ran Charles X out of France into England, but moderate Liberals kept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Phillip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harles X’s cousin &amp; successor,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hosen by the moderate liberals as Constitutional king after his absolutist cousin was kicke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citizen king” because he owed his throne to the people; he got along well with the liberal bourgeoisie; the upper bourgeoisie prospered under Louis; extended suffrage to wealthier citizens; favored the middle class at the expense of th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Philli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riod of reduced economic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40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corruption of Louis Philippe’s gov’t = discontent &amp; recession = factories shut down and people lost their jobs; poor harvest= caused bread prices to rise = French Revolution of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nephew of Napoleon Bonapar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emperor of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After Rev of 1848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public created w. president &amp; legislature = Louis Napolean won president b.c he attracted working classes = once in power, called himself Emperor= ended the short lived Second Republic &amp; back to an empire = brought prosperity BUT foreign issues = collapse of his empire &amp; French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Kossu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Hungarian journal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d Hungarian Nationalists in Rev of 1848; demanded an independent government; an end to serfdom and a written constitution to protect basic righ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0-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ustrian gov’t agreed to reforms but gains were temporary; troops soon regained control &amp; rebels were sma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5:51:18Z</dcterms:created>
  <dc:creator>St. Johns School District</dc:creator>
  <dc:description/>
  <dc:language>en-US</dc:language>
  <cp:lastModifiedBy>Windows User</cp:lastModifiedBy>
  <dcterms:modified xsi:type="dcterms:W3CDTF">2013-02-20T15:42:36Z</dcterms:modified>
  <cp:revision>7</cp:revision>
  <dc:subject/>
  <dc:title>Radicals</dc:title>
</cp:coreProperties>
</file>